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1E5-2809-4ADE-B41F-6F013C72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CD2-0DCA-4D7C-9471-B2ABC1786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terials require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nt 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this workshop is delivered by a nominated presenter,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tructions for the presenter are written in regula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logue for the presenters is written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ld tex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session has been designed as a ‘stand alone’ session so that an individual , pair or group can work through the session independently by reflecting and/ or discussing the information pres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607C-CFAE-41D7-AC2B-08BC7EA4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500120" y="357120"/>
            <a:ext cx="3857760" cy="2892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71320" y="3357720"/>
            <a:ext cx="571500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Understanding explicit and systematic literacy teaching: A process for explicit and systematic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ad the first page and highlight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process places equal emphasis on all three phases and that often 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phase is neglected or omitted. Emphas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continuous cycle of assessing, teaching and learning. The circular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eaching and learning cycle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as an earlier version of this continuou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place of modelled, guided and independent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plain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s you progress through 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eaching and learn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trand of the course you will be actively implementing this process in your classroom with your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fer to the next page which provides a more full-some description of the phases in the process. Read the first phase of the process,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ssessment for/of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as a group any implications for asse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Use the same process for the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Instruc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e’ll now look at explicit, systematic, balanced and integrated literacy teaching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77A-0F4D-406F-B532-A22673B0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57160" y="4143240"/>
            <a:ext cx="514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100" spc="-1" strike="noStrike">
                <a:solidFill>
                  <a:srgbClr val="000000"/>
                </a:solidFill>
                <a:latin typeface="Arial"/>
              </a:rPr>
              <a:t>Explicit, systematic, balanced and integrated literacy tea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Allow 30 minutes for this activ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video you are about to view is part of  the footage that supports </a:t>
            </a:r>
            <a:r>
              <a:rPr b="1" i="1" lang="en-AU" sz="1100" spc="-1" strike="noStrike">
                <a:solidFill>
                  <a:srgbClr val="000000"/>
                </a:solidFill>
                <a:latin typeface="Arial"/>
              </a:rPr>
              <a:t>An Introduction to quality literacy teaching.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full video is available on the Literacy Unit website</a:t>
            </a:r>
            <a:r>
              <a:rPr b="0" i="1" lang="en-AU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Explain that: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As you view this footage, you will be listening for main messages about explicit, systematic, balanced and integrated literacy teaching and looking for evidence of the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Allow time for a brief discussion with whole grou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Link: 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mini task associated with this session will help you to not only reflect on, but also consolidate your learning from this se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D487-4D6A-4CB5-9A58-2B150088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 Participant workbook: 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Say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fer to the sheet,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 Say something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in your workbook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ad the procedure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flect and/or discuss and recor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o consolidate your learning it is recommended that you complete the following t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4B86-382F-4C41-B05F-BE49DE9A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information on th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060A-6D82-449F-BAD4-02D00082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4285-6178-4EA8-9F80-2503F606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F20-AE7C-4661-B713-3256DE59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 Country where it is appropriate to do 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protocols if Aboriginal participants are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Aboriginal participants to do Welcome/Acknowledgement of Country. If none, proceed to do this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C9C5-4A05-4E23-8FAA-C727BEEB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e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the Professional Teaching Standards covered in this worksho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e will now look at the overview for this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362A-77B8-40FE-B7FC-5B6A2280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session explores the background to, and practical application of, explicit, systematic,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’ll start by building a shared understanding of what is meant by ‘cornerstones’ and their importance in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65F-B51A-4E3A-85D4-AA0E8D33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The cornerstones of quality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LICK to bring in each of the four cornerst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fer to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he cornerstones of quality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age in your workbook and take a few minutes to jot down what you believe each of these word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xplicit, systematic, balanced and integrated have been identified as cornerstones. Let’s have a look at why they are referred to as cornerst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A407-5CC4-4081-A111-DC545489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Literacy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inforce the concept of cornerstones by explai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ornerstone (or foundation stone) concept is derived from the first stone set in the construction of a masonry foundation, important since all other stones will be set in reference to this stone, thus determining the position of the entire structur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kipedia)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f one cornerstone  is pulled out, the structure will topple o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LICK for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ate that: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n introduction to quality literacy teaching (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14 and p15) provides some background inform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bout the importance of quality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We’ll now look closely at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B784-8F22-49B0-A045-D79A9A81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Balanced and integrated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ad the pag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Balanced and integrated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 highlight any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mphasis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ften ‘balanced and integrated’ refers to a balanced and integrated reading program. An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Introduction to quality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describes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balanced and integrated in much broader terms. In this sense balanced and integrated literacy teaching ensur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tudents are equipped with the full range of literacy capabilities they need when they are reading, writing, listening and spe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teaching of these literacy capabilities is embedded in real and authentic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Four Literacy Resources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model has been used to support teachers to ensure balance and integration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7874-575C-4BF4-9A96-B3A2EE9C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71680" y="4143240"/>
            <a:ext cx="557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lanced and integrated literacy teaching: The Four Literacy Resources model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000000"/>
                </a:solidFill>
                <a:latin typeface="Arial"/>
              </a:rPr>
              <a:t>Explain that: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AU" sz="1100" spc="-1" strike="noStrike">
                <a:solidFill>
                  <a:srgbClr val="000000"/>
                </a:solidFill>
                <a:latin typeface="Arial"/>
              </a:rPr>
              <a:t>Four Literacy Resources </a:t>
            </a: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model illustrates the kinds of literacy capabilities required by students to interact with and create any print-based, spoken, visual or digital text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The model organises literacy capabilities into four key literacy resources as shown on the slide: code-breaking, meaning-making, text-using, text-analysing. When effective literacy learners interact with texts, they draw on these four resources in an integrated wa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Key points includ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t is necessary to</a:t>
            </a:r>
            <a:r>
              <a:rPr b="1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tegrate</a:t>
            </a:r>
            <a:r>
              <a:rPr b="1" lang="en-US" sz="1100" spc="-1" strike="noStrike">
                <a:solidFill>
                  <a:srgbClr val="2d2d8a"/>
                </a:solidFill>
                <a:latin typeface="Arial"/>
                <a:ea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four literacy resour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re is also a need to explicitly teach the various resour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resources are not hierarchical or developmentally based. The acquisition of knowledge and skills is not to be considered in a linear mann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k participants to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efer to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standing balanced and integrated literacy teaching: The Four Resources mode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and read through the definitions for the resources. (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 introduction to quality literacy teaching p18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nk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We’ll now look at explicit and systematic literacy teaching in more detai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744-BE0A-4875-B1D2-31CE3244B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1432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Arial"/>
              </a:rPr>
              <a:t>Participant workbook: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Explicit and systematic literacy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sk participants to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: Read the page,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Explicit and systematic, balanced and integrated literacy teaching: Explicit and systematic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nd highlight any ke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mphasise that: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xplicit and systematic teaching means much more that providing explicit instructions. It should not be confused with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drill and practice or a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return to authoritarian classrooms where teachers tell and test and where students memorise and regurgitate. Most importantly it involves the deliberate explanation and demonstration of new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nk: 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 process for explicit and systematic literacy teaching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rovides a detailed scaffold to support teachers understand and implement an explicit and systematic approach to literacy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5EF-86A5-496E-BD5A-EA84E028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997-CC03-4210-8F4F-80817480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709-12FF-4630-A982-8F4CE41A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D35-930B-40F3-BB57-36F4238F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0F1A-75A0-4B94-ACBF-E7374EE0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8962-9BCE-45DE-8B75-704FF5F7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33D5-A907-410C-B857-B0851427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AC73-E0A3-4A0C-ADCB-569B30D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7902-4168-48A3-8C11-3584DA08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7948-0CE0-4A69-A213-B782AEC5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B81-3533-4E61-A681-0D18594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FC-7105-443D-BF07-796906B7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BAD3-70C2-453D-8807-BA8DEFA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20F-E362-4A93-BAB7-79AAC3B0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8352-754A-43BF-95D3-CF8C259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16CF-F6A1-4E7D-A351-AFDBCEF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F18D-18E8-42B4-9ACE-2F62F32F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E9A-4995-4F31-8C93-982E87F0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2F4-9531-4AA2-AF55-B59B890E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5CE-174D-448C-98F9-25C2375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74D-AC58-4CA9-831D-4B58368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219-BD85-4B97-BEE4-1B9EA33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085-CE12-4992-AD81-4C9CB1DA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299-F81E-4B88-9FA8-BFE1673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C929-4A6E-47AF-970A-6FBBEE4F78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4" descr="shape_banner.eps"/>
          <p:cNvPicPr/>
          <p:nvPr/>
        </p:nvPicPr>
        <p:blipFill>
          <a:blip r:embed="rId2"/>
          <a:srcRect l="21747" t="0" r="0" b="0"/>
          <a:stretch/>
        </p:blipFill>
        <p:spPr>
          <a:xfrm>
            <a:off x="0" y="0"/>
            <a:ext cx="1371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8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648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d64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715080" y="6143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285480" y="6215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AF8-07F7-4540-80D1-ADAE746C44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0" descr="CEClogoCMYK"/>
          <p:cNvPicPr/>
          <p:nvPr/>
        </p:nvPicPr>
        <p:blipFill>
          <a:blip r:embed="rId1"/>
          <a:stretch/>
        </p:blipFill>
        <p:spPr>
          <a:xfrm>
            <a:off x="7715160" y="5429160"/>
            <a:ext cx="93348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1" descr="AISlogoCMYK"/>
          <p:cNvPicPr/>
          <p:nvPr/>
        </p:nvPicPr>
        <p:blipFill>
          <a:blip r:embed="rId2"/>
          <a:stretch/>
        </p:blipFill>
        <p:spPr>
          <a:xfrm>
            <a:off x="5072040" y="5526000"/>
            <a:ext cx="1285920" cy="13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New_DET_logo.eps"/>
          <p:cNvPicPr/>
          <p:nvPr/>
        </p:nvPicPr>
        <p:blipFill>
          <a:blip r:embed="rId3"/>
          <a:stretch/>
        </p:blipFill>
        <p:spPr>
          <a:xfrm>
            <a:off x="2071800" y="5929200"/>
            <a:ext cx="2031840" cy="704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shape_banner.eps"/>
          <p:cNvPicPr/>
          <p:nvPr/>
        </p:nvPicPr>
        <p:blipFill>
          <a:blip r:embed="rId4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1" descr="FoR logo"/>
          <p:cNvPicPr/>
          <p:nvPr/>
        </p:nvPicPr>
        <p:blipFill>
          <a:blip r:embed="rId5"/>
          <a:stretch/>
        </p:blipFill>
        <p:spPr>
          <a:xfrm>
            <a:off x="2895480" y="1382760"/>
            <a:ext cx="4792680" cy="333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85960" y="-36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357200" y="4786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800" spc="-1" strike="noStrike">
                <a:solidFill>
                  <a:srgbClr val="23669d"/>
                </a:solidFill>
                <a:latin typeface="Arial"/>
                <a:ea typeface="Arial"/>
              </a:rPr>
              <a:t>Self-pace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28840" y="0"/>
            <a:ext cx="7715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A process for explicit and systematic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2444760" y="1420920"/>
            <a:ext cx="5278320" cy="5162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FoR logo"/>
          <p:cNvPicPr/>
          <p:nvPr/>
        </p:nvPicPr>
        <p:blipFill>
          <a:blip r:embed="rId3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752480" y="1500120"/>
            <a:ext cx="7086600" cy="9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s you view the video clip, listen for the main messages about explicit, systematic, balanced and integrated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Look for evidence of these within the video cl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Record the </a:t>
            </a: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main messages 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vidence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 in your workbook on the page, 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icit, systematic, balanced and integrated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357200" y="0"/>
            <a:ext cx="77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23669d"/>
                </a:solidFill>
                <a:latin typeface="Arial"/>
              </a:rPr>
              <a:t>Explicit, systematic, balanced and integrated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FoR logo"/>
          <p:cNvPicPr/>
          <p:nvPr/>
        </p:nvPicPr>
        <p:blipFill>
          <a:blip r:embed="rId2"/>
          <a:stretch/>
        </p:blipFill>
        <p:spPr>
          <a:xfrm>
            <a:off x="7348680" y="557208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752480" y="1557360"/>
            <a:ext cx="70866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Turn to a partner: </a:t>
            </a:r>
            <a:r>
              <a:rPr b="0" i="1" lang="en-US" sz="2400" spc="-1" strike="noStrike">
                <a:solidFill>
                  <a:srgbClr val="08669d"/>
                </a:solidFill>
                <a:latin typeface="Arial"/>
              </a:rPr>
              <a:t>Say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Any implications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asse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plan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69d"/>
                </a:solidFill>
                <a:latin typeface="Arial"/>
              </a:rPr>
              <a:t>Teach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76520" y="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  <a:ea typeface="Arial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Documents and Settings\Bob March\Local Settings\Temporary Internet Files\Content.IE5\MTY77AKM\j0140743[1].wmf"/>
          <p:cNvPicPr/>
          <p:nvPr/>
        </p:nvPicPr>
        <p:blipFill>
          <a:blip r:embed="rId3"/>
          <a:stretch/>
        </p:blipFill>
        <p:spPr>
          <a:xfrm>
            <a:off x="4214880" y="3000240"/>
            <a:ext cx="3189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752480" y="1557360"/>
            <a:ext cx="7086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Take one implication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assess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, one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plann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 and one for 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</a:rPr>
              <a:t>teaching</a:t>
            </a: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 and put them in place in your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Record your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676520" y="46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ini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EE2-B080-4F2B-AC89-ECE0DFCEBBC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Bob March\My Documents\NEW REFLECTION PHOTOS\fireworks_02.jpg"/>
          <p:cNvPicPr/>
          <p:nvPr/>
        </p:nvPicPr>
        <p:blipFill>
          <a:blip r:embed="rId1"/>
          <a:stretch/>
        </p:blipFill>
        <p:spPr>
          <a:xfrm>
            <a:off x="-1062000" y="-304920"/>
            <a:ext cx="11268000" cy="746784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 3" descr=""/>
          <p:cNvPicPr/>
          <p:nvPr/>
        </p:nvPicPr>
        <p:blipFill>
          <a:blip r:embed="rId2"/>
          <a:stretch/>
        </p:blipFill>
        <p:spPr>
          <a:xfrm>
            <a:off x="738360" y="-231840"/>
            <a:ext cx="6978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752480" y="155736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676520" y="2890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669d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1428840" y="1214280"/>
            <a:ext cx="664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3669d"/>
                </a:solidFill>
                <a:latin typeface="Arial"/>
              </a:rPr>
              <a:t>An introduction to quality literacy teaching</a:t>
            </a:r>
            <a:r>
              <a:rPr b="0" lang="en-AU" sz="2000" spc="-1" strike="noStrike">
                <a:solidFill>
                  <a:srgbClr val="23669d"/>
                </a:solidFill>
                <a:latin typeface="Arial"/>
              </a:rPr>
              <a:t> (2009) Curriculum K-12 Directorate, NSW Department education and Training, Sydney, NS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357200" y="1500120"/>
            <a:ext cx="7786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acknowledge the traditional Custodians of this Land, where the Aboriginal People have performed age-old ceremonies of storytelling, music, dance and celeb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acknowledge and pay respect to the Elders past and present, and we acknowledge those of the future, for they will hold the memories, traditions and hopes of Aboriginal Austral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8669d"/>
                </a:solidFill>
                <a:latin typeface="Arial"/>
                <a:ea typeface="Arial"/>
              </a:rPr>
              <a:t>We must always remember that under the concrete and asphalt this Land is, was, and always will be traditional Aborigina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 indent="-34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676520" y="142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Acknowledgement of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FoR logo"/>
          <p:cNvPicPr/>
          <p:nvPr/>
        </p:nvPicPr>
        <p:blipFill>
          <a:blip r:embed="rId2"/>
          <a:stretch/>
        </p:blipFill>
        <p:spPr>
          <a:xfrm>
            <a:off x="7172280" y="559260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Aboriginal Flag.JPG"/>
          <p:cNvPicPr/>
          <p:nvPr/>
        </p:nvPicPr>
        <p:blipFill>
          <a:blip r:embed="rId3"/>
          <a:stretch/>
        </p:blipFill>
        <p:spPr>
          <a:xfrm>
            <a:off x="357120" y="142920"/>
            <a:ext cx="18097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 Box 3" descr=""/>
          <p:cNvPicPr/>
          <p:nvPr/>
        </p:nvPicPr>
        <p:blipFill>
          <a:blip r:embed="rId2"/>
          <a:stretch/>
        </p:blipFill>
        <p:spPr>
          <a:xfrm>
            <a:off x="1328760" y="1096920"/>
            <a:ext cx="7308720" cy="474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676520" y="11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Professional Teach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FoR logo"/>
          <p:cNvPicPr/>
          <p:nvPr/>
        </p:nvPicPr>
        <p:blipFill>
          <a:blip r:embed="rId3"/>
          <a:stretch/>
        </p:blipFill>
        <p:spPr>
          <a:xfrm>
            <a:off x="7172280" y="5572080"/>
            <a:ext cx="1819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4e34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52480" y="1557360"/>
            <a:ext cx="70866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During this session you will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understand the cornerstones of quality literacy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ore balanced and integrated literacy teaching and the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 Four Literacy Resources </a:t>
            </a: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explore explicit and systematic literacy teaching and </a:t>
            </a:r>
            <a:r>
              <a:rPr b="0" i="1" lang="en-US" sz="2400" spc="-1" strike="noStrike">
                <a:solidFill>
                  <a:srgbClr val="23669d"/>
                </a:solidFill>
                <a:latin typeface="Arial"/>
                <a:ea typeface="Arial"/>
              </a:rPr>
              <a:t>A process for explicit and systematic literacy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76520" y="117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Self-paced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357200" y="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The cornerstones of quality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FoR logo"/>
          <p:cNvPicPr/>
          <p:nvPr/>
        </p:nvPicPr>
        <p:blipFill>
          <a:blip r:embed="rId2"/>
          <a:stretch/>
        </p:blipFill>
        <p:spPr>
          <a:xfrm>
            <a:off x="7172280" y="552132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C:\Documents and Settings\KMCINNES8\Local Settings\Temporary Internet Files\Content.IE5\KRCVO16L\MCDD01402_0000[1].wmf"/>
          <p:cNvPicPr/>
          <p:nvPr/>
        </p:nvPicPr>
        <p:blipFill>
          <a:blip r:embed="rId3"/>
          <a:stretch/>
        </p:blipFill>
        <p:spPr>
          <a:xfrm>
            <a:off x="3429000" y="214308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" descr=""/>
          <p:cNvPicPr/>
          <p:nvPr/>
        </p:nvPicPr>
        <p:blipFill>
          <a:blip r:embed="rId4"/>
          <a:stretch/>
        </p:blipFill>
        <p:spPr>
          <a:xfrm>
            <a:off x="2670120" y="1504800"/>
            <a:ext cx="1689120" cy="598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10" descr=""/>
          <p:cNvPicPr/>
          <p:nvPr/>
        </p:nvPicPr>
        <p:blipFill>
          <a:blip r:embed="rId5"/>
          <a:stretch/>
        </p:blipFill>
        <p:spPr>
          <a:xfrm>
            <a:off x="5327640" y="1504800"/>
            <a:ext cx="2292480" cy="59220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11" descr=""/>
          <p:cNvPicPr/>
          <p:nvPr/>
        </p:nvPicPr>
        <p:blipFill>
          <a:blip r:embed="rId6"/>
          <a:stretch/>
        </p:blipFill>
        <p:spPr>
          <a:xfrm>
            <a:off x="2462040" y="5078520"/>
            <a:ext cx="2000520" cy="5968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12" descr=""/>
          <p:cNvPicPr/>
          <p:nvPr/>
        </p:nvPicPr>
        <p:blipFill>
          <a:blip r:embed="rId7"/>
          <a:stretch/>
        </p:blipFill>
        <p:spPr>
          <a:xfrm>
            <a:off x="5389560" y="5052960"/>
            <a:ext cx="213372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752480" y="1557360"/>
            <a:ext cx="7086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85920" y="712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The cornerstones of quality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C:\Documents and Settings\KMCINNES8\Local Settings\Temporary Internet Files\Content.IE5\KRCVO16L\MCDD01402_0000[1].wmf"/>
          <p:cNvPicPr/>
          <p:nvPr/>
        </p:nvPicPr>
        <p:blipFill>
          <a:blip r:embed="rId3"/>
          <a:stretch/>
        </p:blipFill>
        <p:spPr>
          <a:xfrm rot="2523000">
            <a:off x="3798720" y="233532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9" descr=""/>
          <p:cNvPicPr/>
          <p:nvPr/>
        </p:nvPicPr>
        <p:blipFill>
          <a:blip r:embed="rId4"/>
          <a:stretch/>
        </p:blipFill>
        <p:spPr>
          <a:xfrm>
            <a:off x="2560680" y="1504800"/>
            <a:ext cx="1687320" cy="598680"/>
          </a:xfrm>
          <a:prstGeom prst="rect">
            <a:avLst/>
          </a:prstGeom>
          <a:ln w="0">
            <a:noFill/>
          </a:ln>
        </p:spPr>
      </p:pic>
      <p:pic>
        <p:nvPicPr>
          <p:cNvPr id="145" name="Rectangle 10" descr=""/>
          <p:cNvPicPr/>
          <p:nvPr/>
        </p:nvPicPr>
        <p:blipFill>
          <a:blip r:embed="rId5"/>
          <a:stretch/>
        </p:blipFill>
        <p:spPr>
          <a:xfrm>
            <a:off x="5834160" y="1504800"/>
            <a:ext cx="2292120" cy="592200"/>
          </a:xfrm>
          <a:prstGeom prst="rect">
            <a:avLst/>
          </a:prstGeom>
          <a:ln w="0">
            <a:noFill/>
          </a:ln>
        </p:spPr>
      </p:pic>
      <p:pic>
        <p:nvPicPr>
          <p:cNvPr id="146" name="Rectangle 11" descr=""/>
          <p:cNvPicPr/>
          <p:nvPr/>
        </p:nvPicPr>
        <p:blipFill>
          <a:blip r:embed="rId6"/>
          <a:stretch/>
        </p:blipFill>
        <p:spPr>
          <a:xfrm>
            <a:off x="2371680" y="5065560"/>
            <a:ext cx="19987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824120" y="1500120"/>
            <a:ext cx="67485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Balanced and integrated literacy teaching is much more than providing a balance of semantic, graphophonic and syntactic cuing systems when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It ensu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students are equipped with the full range of literacy capabilities they need when they are reading, writing, listening and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366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</a:rPr>
              <a:t>the teaching of these literacy capabilities is embedded in real and authentic contex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676520" y="0"/>
            <a:ext cx="72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Balanced and integrated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FoR logo"/>
          <p:cNvPicPr/>
          <p:nvPr/>
        </p:nvPicPr>
        <p:blipFill>
          <a:blip r:embed="rId2"/>
          <a:stretch/>
        </p:blipFill>
        <p:spPr>
          <a:xfrm>
            <a:off x="7348680" y="5643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571760" y="1557360"/>
            <a:ext cx="6929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14680" y="71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  <a:ea typeface="Arial"/>
              </a:rPr>
              <a:t>The Four Literac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86040" y="2643120"/>
          <a:ext cx="4714920" cy="2498760"/>
        </p:xfrm>
        <a:graphic>
          <a:graphicData uri="http://schemas.openxmlformats.org/drawingml/2006/table">
            <a:tbl>
              <a:tblPr/>
              <a:tblGrid>
                <a:gridCol w="2357640"/>
                <a:gridCol w="2357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Code-bre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Meaning-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Text-u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Text-analy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c8c93"/>
                          </a:solidFill>
                          <a:latin typeface="Arial"/>
                        </a:rPr>
                        <a:t>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998"/>
                    </a:solidFill>
                  </a:tcPr>
                </a:tc>
              </a:tr>
            </a:tbl>
          </a:graphicData>
        </a:graphic>
      </p:graphicFrame>
      <p:pic>
        <p:nvPicPr>
          <p:cNvPr id="161" name="Picture 12" descr="FoR logo"/>
          <p:cNvPicPr/>
          <p:nvPr/>
        </p:nvPicPr>
        <p:blipFill>
          <a:blip r:embed="rId2"/>
          <a:stretch/>
        </p:blipFill>
        <p:spPr>
          <a:xfrm>
            <a:off x="4214880" y="5622840"/>
            <a:ext cx="1776240" cy="123516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ular Callout 3"/>
          <p:cNvSpPr/>
          <p:nvPr/>
        </p:nvSpPr>
        <p:spPr>
          <a:xfrm>
            <a:off x="714240" y="928800"/>
            <a:ext cx="2071800" cy="1785960"/>
          </a:xfrm>
          <a:prstGeom prst="wedgeRoundRectCallout">
            <a:avLst>
              <a:gd name="adj1" fmla="val 102611"/>
              <a:gd name="adj2" fmla="val 455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need access to the words on the page – quickly and accurately</a:t>
            </a:r>
            <a:r>
              <a:rPr b="0" lang="en-US" sz="1800" spc="-1" strike="noStrike">
                <a:solidFill>
                  <a:srgbClr val="08669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ular Callout 3"/>
          <p:cNvSpPr/>
          <p:nvPr/>
        </p:nvSpPr>
        <p:spPr>
          <a:xfrm flipH="1">
            <a:off x="7000200" y="928800"/>
            <a:ext cx="2071800" cy="1785960"/>
          </a:xfrm>
          <a:prstGeom prst="wedgeRoundRectCallout">
            <a:avLst>
              <a:gd name="adj1" fmla="val 95453"/>
              <a:gd name="adj2" fmla="val 43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construct meaning using metacognitive strate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ular Callout 3"/>
          <p:cNvSpPr/>
          <p:nvPr/>
        </p:nvSpPr>
        <p:spPr>
          <a:xfrm>
            <a:off x="571680" y="4500720"/>
            <a:ext cx="2071440" cy="2286000"/>
          </a:xfrm>
          <a:prstGeom prst="wedgeRoundRectCallout">
            <a:avLst>
              <a:gd name="adj1" fmla="val 102527"/>
              <a:gd name="adj2" fmla="val -4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know they are reading the text to help them learn something or achieve something</a:t>
            </a: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ular Callout 3"/>
          <p:cNvSpPr/>
          <p:nvPr/>
        </p:nvSpPr>
        <p:spPr>
          <a:xfrm>
            <a:off x="7286760" y="4786200"/>
            <a:ext cx="1785960" cy="1857600"/>
          </a:xfrm>
          <a:prstGeom prst="wedgeRoundRectCallout">
            <a:avLst>
              <a:gd name="adj1" fmla="val -70981"/>
              <a:gd name="adj2" fmla="val -8162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are able to make evaluative decisions /judgments about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1d52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shape_banner.eps"/>
          <p:cNvPicPr/>
          <p:nvPr/>
        </p:nvPicPr>
        <p:blipFill>
          <a:blip r:embed="rId1"/>
          <a:srcRect l="21818" t="0" r="0" b="0"/>
          <a:stretch/>
        </p:blipFill>
        <p:spPr>
          <a:xfrm>
            <a:off x="1440" y="0"/>
            <a:ext cx="137016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Line 1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6"/>
          <p:cNvSpPr/>
          <p:nvPr/>
        </p:nvSpPr>
        <p:spPr>
          <a:xfrm flipV="1">
            <a:off x="13716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643040" y="1285920"/>
            <a:ext cx="7196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Failing to provide students with explicit and systematic teaching is to leave important literacy learning up to students to ‘figure out’ for themselves, often resulting in frustration, disengagement and underachievement.</a:t>
            </a:r>
            <a:r>
              <a:rPr b="0" i="1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Explicit and systematic literacy teaching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4d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should not be confused with ‘drill and practice’  or a return to authoritarian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4d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involves the deliberate explanation and demonstration of new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23669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676520" y="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Modu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23669d"/>
                </a:solidFill>
                <a:latin typeface="Arial"/>
              </a:rPr>
              <a:t>Explicit and systematic literacy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FoR logo"/>
          <p:cNvPicPr/>
          <p:nvPr/>
        </p:nvPicPr>
        <p:blipFill>
          <a:blip r:embed="rId2"/>
          <a:stretch/>
        </p:blipFill>
        <p:spPr>
          <a:xfrm>
            <a:off x="7172280" y="5410080"/>
            <a:ext cx="181944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23:41:30Z</dcterms:created>
  <dc:creator>rebecca</dc:creator>
  <dc:description/>
  <dc:language>en-US</dc:language>
  <cp:lastModifiedBy>bpryor</cp:lastModifiedBy>
  <dcterms:modified xsi:type="dcterms:W3CDTF">2009-10-19T21:29:50Z</dcterms:modified>
  <cp:revision>123</cp:revision>
  <dc:subject/>
  <dc:title>Slide 1</dc:title>
</cp:coreProperties>
</file>